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FB3-21BA-45A2-B88A-B0FDE366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53CA-77BE-4170-A79D-9AD59DB4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606F-E693-44E5-8281-D4BE4B2D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3D9-5CD2-48D2-8FD1-1C435A39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19B-2BBA-4D3F-8C3F-E4008F9C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3119-0316-40E6-ADC8-6D692CDD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202-854C-4ADD-8094-A71AE0A7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A14-D1D1-432E-BC99-E990EB8B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1BA-5D71-41B0-AEE4-4CF4C91A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DA0B-7085-48A1-83C4-B39B8E4D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909-23A2-4E6F-8B09-C0A996E7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D707-CF8E-482C-92D2-76ECB961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05EB-3355-4558-B050-023ADEDB5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quistador and Columbian civiliz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Abbie Coll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ztecs were surprised when the saw Cortez and his men because they never seen horses bef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ztecs were polytheistic that believed in many gods and honor the gods name is  Quetzacoatl  who was a pale skinned man that the Aztecs thought he was Cort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ztecs lived in central Mex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ochtitlan, their capital city,  was an unusual city because it was build in a middle of a l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ztecs caught the smallp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4176720" cy="2603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94560" y="365688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.calpoly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95680" y="3962520"/>
            <a:ext cx="4286520" cy="2390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89640" y="649044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kirita.blog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yas lived in Yucatan Peninsula Mexican co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yas were also polytheistic (believes in many god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gion did not contain as much g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yas had slaves who sometimes gain their freedo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rot="333000">
            <a:off x="5029200" y="1295280"/>
            <a:ext cx="3867120" cy="2519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21420600">
            <a:off x="6022080" y="38091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k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 rot="20632200">
            <a:off x="5334120" y="4419360"/>
            <a:ext cx="2409840" cy="1895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20457000">
            <a:off x="6327000" y="63237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.ucsb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s lived in South America and lived in the Andes 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pital was Cuz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as were polytheistic that believed in many go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practice animal sacrifice and on special occasion humans and children were sacrific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s were in a Civil War when Pizarro toke over the Incas in 1531(Civil War is fighting with two or more groups  in the same count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s were Conquistadors who conquers (takes by for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10080" y="60948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479280" y="342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s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343400" y="3809880"/>
            <a:ext cx="2260440" cy="2676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270680" y="6490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rdon.wiki.ccsd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z took Montezuma  hostage  and was killed  and Montezuma was the Aztecs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z traveled with about 500 men and 16 horses to overcome the Aztecs in 151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ztecs leader Montezuma invited Cortez thinking he was Quetzalcoat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ed  with 180 men and 27 horses to Peru the inc as civ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zarro could take over the Incas eas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arro wanted a room would be filled with gold and silver and the Atahulalpa would be ret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 (Where do we see the lasting effect of these conquistadors even in 2011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18288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3505320"/>
            <a:ext cx="63248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panish explorers and conquistadors changed the Central and South America forever because now a lot of the Central and South America speaks Spanish. Most of the people are Christians and don’t believe in their native g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46:10Z</dcterms:created>
  <dc:creator>jklib</dc:creator>
  <dc:description/>
  <dc:language>en-US</dc:language>
  <cp:lastModifiedBy>jklib</cp:lastModifiedBy>
  <dcterms:modified xsi:type="dcterms:W3CDTF">2011-11-29T16:21:02Z</dcterms:modified>
  <cp:revision>6</cp:revision>
  <dc:subject/>
  <dc:title>Conquistador and Columbian civilizations </dc:title>
</cp:coreProperties>
</file>